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810-DD3B-4907-9005-971D7B3A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6DA-FF04-4623-96A8-5BD6744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76C-8ADE-45DB-84DD-008E18E1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53D-E19D-4215-B885-0F64988F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761B-0675-4B25-937F-77949FF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FF1-DC84-4168-8562-BBEFEC8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A4F6-C96B-4292-9223-3624382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E7C7-187B-445B-8808-0EF9116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ACC-DBB1-4FB5-A812-65D5663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3816-7154-4957-997E-3175AC1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088-CFD3-4286-BDAA-73E90EF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44D-7D39-43B2-A38C-9A4111DF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F2E-1F3B-423D-85AD-A0B3A5C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9B95-0647-44EF-8D6F-EDF2773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B620-CF89-4B68-BE56-5D4E7BB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0E8-E509-404F-87AC-9308C6A0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7E0-CA83-446F-B877-F5DF5FF5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FAC-EFB3-4E8F-B1D9-F16C8F0C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B14-5635-4AC2-AFE7-4C7B7B39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C5C-73DD-448E-9A81-E2EECFD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35F-6568-4771-BE00-214391F6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23D-639C-47BA-9244-C4B9288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03B-D51A-45B7-BDE1-035741C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28B-808B-4833-9A9E-F27D06E1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800-8524-4F93-ACCC-51A4B375A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A019-3383-4775-8FA3-3A1629B3D8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1080" y="3500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alcolatore memoriz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ati, che rappresentano informazioni di interes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programmi per l’elaborazione dei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emori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è l’unità responsabile della memorizzazione dei da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unità di memoria fornisce due sole opera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izzazione di un valore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ri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o al valore memorizzato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istruzioni di un programma corrispondono ad operazioni elementari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aritmet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relazionali (confronto tra dat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su caratteri e valori di ver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e operazioni numer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calcolatore sa svolgere poche tipologie di operazioni elementari ma in mod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molto effic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 calcolatore può eseguire decine o centinaia di milioni di istruzioni al seco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elaborazione dei dati viene svolta dall’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unità aritmetico-logic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 che è un componente dell’unità centrale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rasferi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iettivo: permettere lo scambio di informazioni tra le varie componenti funzionali del calcola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rasferimento dei dati e delle informazioni di control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ue possibili sol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ciascun componente con ogni altro compon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tutti i componenti a un unico canale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bu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ilizzo di un bus favorisce la modularità e l’espandibilità del calcol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ordinamento tra le varie parti del calcolatore è svolto dall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ità di contro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è un componente dell’unità centrale di elabor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componente dal calcolatore esegue solo le azioni che gli vengono richieste dall’unità di cont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ntrollo consiste nel coordinamento dell’esecuzione temporale delle oper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a internamente all’unità di elaborazione sia negli altri elementi funz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304920"/>
            <a:ext cx="8856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positivi di memorizzazio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’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a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andom Access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ad accesso cas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o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ead Only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di sola lettura; si attiva all’accensione del Comp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789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i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d –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tà di Back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087640" cy="155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4000" y="2565360"/>
            <a:ext cx="1787400" cy="1128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12609" t="14921" r="18834" b="865"/>
          <a:stretch/>
        </p:blipFill>
        <p:spPr>
          <a:xfrm>
            <a:off x="3203640" y="5013360"/>
            <a:ext cx="771480" cy="841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16000" y="5084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23847" t="1602" r="23847" b="11463"/>
          <a:stretch/>
        </p:blipFill>
        <p:spPr>
          <a:xfrm>
            <a:off x="2595600" y="3645000"/>
            <a:ext cx="861840" cy="96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314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emoria central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967040"/>
            <a:ext cx="6408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a centrale (o principal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componente del calcolatore in cui vengono immagazzinati e da cui vengono acceduti i dati e i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memoria che può essere acceduta direttamente dal process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è costituita da sequenze di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celle</a:t>
            </a:r>
            <a:r>
              <a:rPr b="0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(o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locazioni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gni cella può contenere una quantità fissata di memoria (numero di bit), detta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i memori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gni cella è caratterizzata d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indirizz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un numero che identifica la cella e ne consente l’acces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al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la sequenza di bit memorizzata dalla ce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memoria fornisce le operazioni 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le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consultazione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cri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ifica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9036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tteristiche dell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numero di bit che possono essere memorizzati, misurati in byte (e multipli del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ura la velocità di esecuzione delle operazioni di lettura/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 la capacità di conservare i valori memorizzati in modo permanente o m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computer è una macchina in grado di accettare informazioni provenienti dall’esterno, di effettuare su di esse operazioni aritmetiche e logiche e quindi di fornire risultati in forma comprensibi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svolgere ciascuna di queste funzioni possiede dei dispositivi idone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68440" y="476280"/>
            <a:ext cx="83246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col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sicamente e’ fatta di componenti elettronici (transistors) miniaturizz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gni unità elementare può trovarsi a due diversi livelli di tensione elettrica: ecco il corrispettivo fisico del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b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98612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random access memor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ssono essere accedute sia in lettura che in 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volatili (i dati memorizzati vengono persi allo spegnimento del calcolato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usate per memorizzare dati e program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0976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O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read only memory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ermettono solo la lettura de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ono persistenti (mantengono il suo contenuto anche quando non c’è alimentazione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in questa memoria si trovano i programmi che servono per l’avvio della macchina, i cosiddetti programmi di sistema e il BIOS (Basic Input Output System) sistema di base per il controllo di entrata ed usci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622440"/>
            <a:ext cx="9290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la 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7840" y="556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77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elle sono numerate in sequenza: il numero di ogni cella costituisce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indiriz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pecificando l’indirizzo di una cella, la CPU e’ in grado di leggere e/o modificare il valore del byte memorizzato in quella c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andom Access Memory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(RAM),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che’ ogni cella e’ indirizzabile dirett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1440" y="566640"/>
            <a:ext cx="6767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85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pazio di indirizzamento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: insieme o numero delle celle indirizzabili direttam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l numero di celle indirizzabili e’ una potenza di due. Co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6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elle  = 65.53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2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4.294.967.29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6000" y="414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2209680"/>
            <a:ext cx="3809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0101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7720" y="2863800"/>
            <a:ext cx="38102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17720" y="3517920"/>
            <a:ext cx="38116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1010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826160"/>
            <a:ext cx="3808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47992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0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17920" y="220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17204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11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93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52680" y="346068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01720" y="359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4480" y="4114800"/>
            <a:ext cx="17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1720" y="424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4768920"/>
            <a:ext cx="16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4900680"/>
            <a:ext cx="17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0240" y="54910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.5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47894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566640"/>
            <a:ext cx="8003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tà di misura della memo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360" y="196488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i usano delle unita’ di misura per indicare la dimensione della memo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kilo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KB) = 1024 byte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e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MB) = 1000 KB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GB) = 1 miliardo d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Quindi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16 bit si indirizzano 64KB di memo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32 bit si indirizzano 4GB di memor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714240"/>
            <a:ext cx="8256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tipiche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Personal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8, 256, 512 MByte, 1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una volta era un lusso avere 64 K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Mainframe/Workstation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, 2, 3.. 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Ricordatevi che la memoria e’ espandibile (fino ad un certo limi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414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informazioni sulla RAM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WO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 (word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di un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ti bit possono essere letti/scritti/us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lla CPU con un unico accesso alla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6, 32, 64, 128 bi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iù grande è 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maggiore è la potenza del compu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1412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iare l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chitettur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 calcolatore signif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viduare ciascun componente del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i principi generali di funzionamento di ciascun compon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come le varie componenti interagisco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632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rietà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89360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ene i dati e le istruzioni che devono essere elaborati dalla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elo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ggere/scrivere una cella ci vogliono, in media 5--30 nanosecondi (millesimi di milionesimi di secondo = 30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’ fatta di componenti elettronici, e se togliete l’alimentazione perdete tu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costo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relativament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grandezza della ram viene misurata in me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giore è la quantità di RAM, più spazio sarà disponibile per i dati sui quali può operare la CPU per l’elabor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secondaria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di ma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grandi mas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dati memorizzati sopravvivono all’esecuzione dei programm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on pu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sere acceduta direttamente dalla CP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 dati di una memoria secondaria per essere elaborati dal processore devono passare nella memoria centr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moria principale Vs. Memoria seconda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secondar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n modo permanente tutti i programmi e i dati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 programmi in esecuzione e i dati necessari per la loro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aratteristiche delle 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921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non 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ati memorizzati non si perdono allo spegnimento del calcolatore (perché memorizzati in forma magnetica o ottica anziché elettron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grande 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à maggiore (anche 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costo per bit di una memoria secondaria è minore (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a 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i di accesso maggiori (di qualche ordine di grandezza) rispetto a quelli della memoria princip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grammi e dati risiedono normalmente in memoria secondar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lancia un programma questo viene copiato dalla memoria secondaria in memoria primaria. Questa operazione si chiama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aricamen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876320"/>
            <a:ext cx="954108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fatto di supporti magnetici permanenti, gestiti mediante dispositivi meccanic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pi di accesso dell’ordine dei micro/millisecon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pazio disponibi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0, 20, 160, …, 300 Gi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(una volta era un lusso avere 20 Megaby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Hard disk"/>
          <p:cNvPicPr/>
          <p:nvPr/>
        </p:nvPicPr>
        <p:blipFill>
          <a:blip r:embed="rId1"/>
          <a:stretch/>
        </p:blipFill>
        <p:spPr>
          <a:xfrm>
            <a:off x="6012000" y="450864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175392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ll’hard disk la memoria e’ organizzata in blocchi di dimensione fissa (512B, 1KB,2KB,..)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indirizzabili dirett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lettura/scrittura del disco avviene sempre in blocchi, per risparmiare tempo (pensate al tempo perso se si dovesse leggere un byte per volta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l disco e’ quindi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formatta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blocc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709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843280" y="2565360"/>
          <a:ext cx="3024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565360"/>
                    <a:ext cx="3024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 disco consiste in un certo numero di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piatti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due superfici che ruotano attorno ad un perno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gni superficie dispone di una propria testina di lettura / scrit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22200" y="4869000"/>
            <a:ext cx="8497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superfici sono organizzate in cerchi concentrici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trac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in spicchi di ugual grandezza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ettor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bit corrisponde ad uno stato di polarizzazione (positiva o negativa) del materiale magnetico che costituisce i d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841680" y="174132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tracce equidistanti dal centro formano u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ilind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2441520"/>
          <a:ext cx="6229440" cy="31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41520"/>
                    <a:ext cx="62294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moria primaria vs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7080" y="1916280"/>
            <a:ext cx="86756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HARD DI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eloce (nanosec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lenta(microse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iccola (Megabyte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grande (Gigabyt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olat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perman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ate che, in teoria, il computer potrebbe funzionare con la sola ram o il solo hard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01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557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ima decomposizione di un calcolatore è relativa a due macro-componen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33880" y="2509920"/>
            <a:ext cx="481788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floppy dis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30440"/>
            <a:ext cx="7848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dischi magnetici di piccola capacità, portatili, usati per trasferire informazioni (file) tra computer divers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costituiti da un unico disco con due superf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oricamente ne sono stati creati vari tipi identificati dal loro diametro (3.5, 5.25 e 8 pollici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ggi sopravvivono solo dischet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a 3.5” (1.4 Mby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Floppy"/>
          <p:cNvPicPr/>
          <p:nvPr/>
        </p:nvPicPr>
        <p:blipFill>
          <a:blip r:embed="rId1"/>
          <a:stretch/>
        </p:blipFill>
        <p:spPr>
          <a:xfrm>
            <a:off x="7020000" y="4797360"/>
            <a:ext cx="12970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zi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igliano ai dischetti floppy ma sono un po' più grandi e la forma è un po’ divers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da 100 e 250 MByte e necessitano di un drive apposito, diverso da quello dei flopp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no piuttosto costos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Disco zip"/>
          <p:cNvPicPr/>
          <p:nvPr/>
        </p:nvPicPr>
        <p:blipFill>
          <a:blip r:embed="rId1"/>
          <a:stretch/>
        </p:blipFill>
        <p:spPr>
          <a:xfrm>
            <a:off x="6877080" y="4437000"/>
            <a:ext cx="142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37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616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ngono usati dagli amministratori di grandi sistemi di computer per creare periodicamente copie (Backup) del contenuto degli hard disk, in modo da salvare i dati qualora se ne guastasse u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ccesso sequenziale: la lettura/scrittura è molto lenta (può richiedere alcune ore), per questo l'operazione di backup viene lanciata tipicamente durante la notte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Nastro"/>
          <p:cNvPicPr/>
          <p:nvPr/>
        </p:nvPicPr>
        <p:blipFill>
          <a:blip r:embed="rId1"/>
          <a:stretch/>
        </p:blipFill>
        <p:spPr>
          <a:xfrm>
            <a:off x="6732720" y="4797360"/>
            <a:ext cx="1865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76720" y="3787920"/>
            <a:ext cx="4535280" cy="23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no nastri di materiale magnetizzabile raccolti su supporti circolari, o in casset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l nastro sono tracciate piste orizzontali paralle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 solito 9 piste, di cui 8 corrispondono ad un byte e la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è il bit di parit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dati sul nastro sono organizzati in zone contigue dett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eparate da zone prive di informazione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terrecord ga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-ROM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Compact Disk): sono esattamente gli stessi CD usati per la mu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igla ROM (Read Only Memory) indica il fatto che i dati, una volta scritti su CD, sono indelebili e potranno essere soltanto let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capacità tipica è di 650 MByte (che nei CD audio corrisponde a 74 minuti di registrazione), ma esistono anche modelli leggermente più capienti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CD"/>
          <p:cNvPicPr/>
          <p:nvPr/>
        </p:nvPicPr>
        <p:blipFill>
          <a:blip r:embed="rId1"/>
          <a:stretch/>
        </p:blipFill>
        <p:spPr>
          <a:xfrm>
            <a:off x="6948360" y="465300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ini C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sono CD con diametro ridotto (8 cm) e capacità di 180 MByte o 21 minu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perfettamente compatibili con i normali lettori CD (eccetto quelli in cui il CD va inserito attraverso una fessura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in commercio anche le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 Ca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ischetti di forma rettangolare (!) grandi all'incirca come una carta di credito e con capacità che va da 30 a 80 MBy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Mini CD"/>
          <p:cNvPicPr/>
          <p:nvPr/>
        </p:nvPicPr>
        <p:blipFill>
          <a:blip r:embed="rId1"/>
          <a:stretch/>
        </p:blipFill>
        <p:spPr>
          <a:xfrm>
            <a:off x="6602400" y="4941720"/>
            <a:ext cx="1062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DVD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Digital Versatile Disk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Esteriormente sono in tutto simili ai CD-ROM, ma possono contenere da 9 a 17 GByte (cioè fino a 25 volte la capacità di un normale CD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usati da alcuni anni soprattutto per i film digitali, tuttavia possono benissimo contenere anche i normali dati come i CD-R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leggere i DVD occorre un lettore CD appropriato (i normali drive per CD non sono in grado di farlo). Il lettore DVD è invece semp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grado di leggere anche i normali CD-RO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133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95920" indent="-2959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superficie di un disco presenta una successione di tratti disposti secondo un’unica traccia a spi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pi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avvall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land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lis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5920" indent="-295920" algn="just">
              <a:lnSpc>
                <a:spcPct val="90000"/>
              </a:lnSpc>
              <a:spcBef>
                <a:spcPts val="1137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passaggio da pit a 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e viceversa) rappresent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1 mentre l’assenza d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riazione rappresenta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219640" y="3714840"/>
          <a:ext cx="367200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714840"/>
                    <a:ext cx="36720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940360" y="2852640"/>
            <a:ext cx="144360" cy="57492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284796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iflettono raggi lumin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 modo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Dispositivi magneto-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MOD (Magneto Optical Disk)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sono dischi a supporto magnetico, su cui però la scrittura dei dati può avvenire solo dopo un forte riscaldamento della superficie con un fascio las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A temperatura ambiente i dischi magneto-ottici non sono sensibili ai campi magnetici e questo li mette al riparo dalle cancellazioni accidental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sistono in numerosi modelli, con capacità che arriva fino ad alcuni GByte, e richiedono la presenza di un apposito driv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osto eccessivo (soprattutto del driv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mangono in uso solo in alcuni sistemi dove è richiesto il frequente salvataggio di una grande quantità di d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n condizioni di sicurezza (per es. nelle banch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Disco magneto-ottico"/>
          <p:cNvPicPr/>
          <p:nvPr/>
        </p:nvPicPr>
        <p:blipFill>
          <a:blip r:embed="rId1"/>
          <a:stretch/>
        </p:blipFill>
        <p:spPr>
          <a:xfrm>
            <a:off x="7524720" y="5226120"/>
            <a:ext cx="1258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134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rchitettura dell’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di un calcolatore reale è molto comple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macchina di Von Neumann</a:t>
            </a:r>
            <a:r>
              <a:rPr b="1" lang="it-IT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è un modello semplificato dei calcolatori moder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Von Neuman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rogettò, verso il 1945, il primo calcolatore con programmi memorizzabili anziché codificati mediante cavi e interrut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1640" y="1628640"/>
            <a:ext cx="939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’ composta da 4 tipologie di componenti funziona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nità centrale di elabora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P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egue istruzioni per l’elaborazione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anche funzioni di control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morizza e fornisce l’accesso a dati e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facce di ingresso e usc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nenti di collegamento con le periferiche del calcolato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la funzionalità di trasferimento di dati e di informazioni di controllo tra le varie componenti funzion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60" y="1989000"/>
            <a:ext cx="9001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funzionamento di un calcolatore è descrivibile in termini di poche componenti (macro-unità) funzion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gni macro-unità è specializzata nello svolgimento di una tipologia omogenea di funziona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ccezi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l’unità centrale di elaborazione, che svolge sia funzionalità di elaborazione che di control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0-13T15:45:51Z</dcterms:modified>
  <cp:revision>84</cp:revision>
  <dc:subject/>
  <dc:title>Diapositiva 1</dc:title>
</cp:coreProperties>
</file>